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234-EB4B-4E95-B099-C20E6327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B5DD-DCBD-4A51-8CDF-217162F6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F1A-0363-4FDE-B4C5-AF52C6CC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5B5-7E4B-40F5-BA37-EAC80FFC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1BCF-5961-4704-877C-99A456D5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D76E-902A-4BBD-836C-D8B6090B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C54F-7489-4741-B990-B1F8D187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CBDA-212D-4C23-9B97-F610D842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C7EB-D094-460E-9FBC-379DFF0D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B047-0A94-4490-A757-62EFA483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CF65-9E2A-46FE-B030-D76D7D3A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AB5-49AD-4552-98A4-53D9BC5D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7431-1B1B-463B-9D98-FEE8F6E5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3051-18EE-4BDD-AC61-4D4B8B80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8D84-3B80-478A-86F3-C4EE7AF2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04F2-573B-46CD-8A12-D327FD0B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5896-41B5-469D-B87F-7A4C3AC4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2CA46-9B9E-41C4-B602-7F6BFF6A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DD576-B5B4-4580-9F35-BFB9821E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EF326-AE57-445A-8D53-B5BE5C4D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B3687-909E-4DC7-99AD-2F08D1D7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3579B-884B-4A94-9049-0982998E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E3C-C8BE-4FFE-BBD1-9A1D757B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CAA4A-FFAD-4559-89B2-6B542ECB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0F669-4363-4256-A607-107AF770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68094-16AE-46B9-BACF-F9A99F60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063D6-EABC-4145-99D0-5E72FCB3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03371-73F9-42EE-999A-325EE5FB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C7CCE-ABE0-4D89-B361-CF8021CA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91B1D-D8FE-43DF-BD76-D9B0A30C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888-ECB2-488A-93F6-FA3AD6CD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B2B-AA3E-456B-AC4A-3E6E9E02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0AE5-53E1-4339-8301-FA2C5921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035-3C01-47CC-84B1-64A22EDE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856-8F8B-4BC9-ADE7-79DE1E4B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4DF-E568-4A2B-A760-B36B2566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A747-3533-4D5E-B38A-41C4CD307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CB5B-6862-46CC-93C1-4525AD3FD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79BD-25EE-47C2-9879-C9AA96AAA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cient Ath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981240"/>
            <a:ext cx="64008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by: Emily M.&amp; Jayden 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/15/10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Bradley Hand ITC"/>
              </a:rPr>
              <a:t>Greek Democracy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said that Athens is the best example of a Greek democra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Bradley Hand ITC"/>
              </a:rPr>
              <a:t>Greek Democracy! (cont.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ens was first governed by any citizens 18 years or older, also called an assemb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Bradley Hand ITC"/>
              </a:rPr>
              <a:t>Greek Democracy! (cont.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was not working so they chose 500 citizens for the panel in the assembly. That year they were chosen by pulling lots or sticks with numbers on th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Bradley Hand ITC"/>
              </a:rPr>
              <a:t>Greek Democracy! (cont.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uncil had to approved any decisions that were m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Bradley Hand ITC"/>
              </a:rPr>
              <a:t>Surrounding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ens was near the city-states of Meguro, Corinth, Argos, Spar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citystatemap"/>
          <p:cNvPicPr/>
          <p:nvPr/>
        </p:nvPicPr>
        <p:blipFill>
          <a:blip r:embed="rId1"/>
          <a:stretch/>
        </p:blipFill>
        <p:spPr>
          <a:xfrm>
            <a:off x="4495680" y="2666880"/>
            <a:ext cx="4114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Bradley Hand ITC"/>
              </a:rPr>
              <a:t>Govern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remembered for their government and their ru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Bradley Hand ITC"/>
              </a:rPr>
              <a:t>Greek Dark 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ens was a small village, home to the  tribe of the Ionian peop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crystalinks.com/templehepha.g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7000" y="1984320"/>
            <a:ext cx="55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greece.mrdonn.org/athens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0-12-20T18:11:4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